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9C57-F075-4E78-B932-A794FF17C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0D9-2FA9-44B7-9705-19CEF6A0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841-EC70-4421-B31C-E9D7A59C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43BE-DAD9-4367-914D-1560F001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3FBD-D67C-4E7B-B762-14EEF3FE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5C8-4267-4AAB-8271-895F81AA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75F-B439-4467-9521-F2779601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35E-432A-43F1-8651-DE66EC87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E9F4-C6E5-4607-8ED6-52EDEB9E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9BC-DD3A-413D-9B9D-FDFB574B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09BC-A8F3-41DC-BF54-DE646852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697-2C8A-4EAA-85D5-CB270CFB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05B8-1B22-4128-BD62-0EE1D15FEE36}" type="slidenum">
              <a:rPr b="0" lang="nb-NO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Informing and engaging stakeholder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stakeholder groups should be informed and engaged in preparing and using the policy brie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contextual factors might affect efforts to engage stakehold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will different stakeholder groups be engaged in preparing and using the policy brief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difference will informing and engaging stakeholders make and how will this be evalua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ategories of stakeholders and reasons for engaging them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nsidering different categories of stakeholders and the reasons for engaging them can help to identify which stakeholders should be informed and engaged in preparing and using a policy brie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ublic official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lected officials, political staff and civil servants in different government departments (e.g. health, finance, education, labour) and agencies in the national government and sub-national government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anag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n districts or regions, healthcare institutions (e.g. hospitals), non-governmental organisations (NGOs), and other relevant types of organisa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public at lar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ctions of the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That are particularly affected by the problem and policy op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ealth work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fessionals, professional organisations, and non-professional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n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Professional organisations that represent the interest of their members and other trade un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ecial interest grou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Groups or organisations formed for the purpose of putting forward the shared views and interests of its member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National and internation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nors and international ag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dividuals, groups or organisations with particular expertise and experi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.g. researchers, technical experts, people with relevant practical experienc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For each category of stakeholde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may be helpful to consider potential reasons for engaging organisations, groups or individuals in preparing and using a policy brief, inclu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orm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btain specific types of in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gage them in deliberations about the problem and sol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ch a consensus or make a d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addition, there may be reasons that are external to the specific policy issue, including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mprove governance, social cohesion and social just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ild capacity and lea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3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39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4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52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5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Reasons for engagement and the degree of engagement that is desirable will vary across different stakehold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ile it may be desirable to inform a wide range of stakeholders, the amount and type of information that is needed will 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imilarly, the types of input and the importance of engaging people in deliberations will 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equently, how best to engage different stakeholders will also v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ffff"/>
                </a:solidFill>
                <a:latin typeface="Arial"/>
              </a:rPr>
              <a:t>Categories of stakeholders and reasons for engaging them</a:t>
            </a:r>
            <a:r>
              <a:rPr b="0" lang="nb-NO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1895400"/>
            <a:ext cx="914400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Clarifying which organisations, groups or individuals to engag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has access to the types of information and evidence that are needed to clarify the problem, options for addressing the problem, barriers to implementing those options and implementation strateg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has practical experience related to the problem and possible solution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has been engaged in efforts to address the problem in the pa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has not been engaged, but should have be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will be affect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influentia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can obstruct a decision if not engag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runs organisations with relevant inter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o is directly responsible for decisions regarding the options and their implementation?</a:t>
            </a: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ow should stakeholders be selected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 strategies require little or no sel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.g. disseminating information to the public at la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because time and resources are always limited, it is generally necessary to establish prio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broad dissemination may require setting priorities such as how much effort to put into informing people wh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re illiter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peak different langua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in different parts of the coun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cause information may need to be tailored to specific audiences to be effective, it may be important to determine which groups are most in need of tailored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is better to consider priorities such as these explicitly to ensure that time and resources are used efficiently</a:t>
            </a: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9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5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8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8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8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9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9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7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9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9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01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2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03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04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6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7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18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19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Most deliberative processes require deciding who will participat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4052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inding the right participants is important to ensure that deliberative processes work w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ffff"/>
                </a:solidFill>
                <a:latin typeface="Arial"/>
              </a:rPr>
              <a:t>For some types of input a </a:t>
            </a:r>
            <a:r>
              <a:rPr b="1" lang="en-GB" sz="3600" spc="-1" strike="noStrike">
                <a:solidFill>
                  <a:srgbClr val="ccffff"/>
                </a:solidFill>
                <a:latin typeface="Arial"/>
              </a:rPr>
              <a:t>representative</a:t>
            </a:r>
            <a:r>
              <a:rPr b="0" lang="en-GB" sz="3600" spc="-1" strike="noStrike">
                <a:solidFill>
                  <a:srgbClr val="ccffff"/>
                </a:solidFill>
                <a:latin typeface="Arial"/>
              </a:rPr>
              <a:t> sample may be desirable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 example, representativeness is essential for opinion polls and other types of surve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may also be important for deliberative processes to ensure legitimacy and perceptions of legitima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Aims of selecting participants in deliberative proces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nvolve those that are appropriate to the particular process, including those who themselves feel they have a s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nsure that people are not excluded because they are outside familiar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cial efforts may be needed to avoid excluding people by accident or lack of sufficient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can undermine the legitimacy and credibility of deliberative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can also reinforce existing inequalities of power and access to resources</a:t>
            </a: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4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5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1280" y="-907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Issues to consider with respect to deciding which stakeholders to include in deliberative process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o decides who is included and h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hen the selection of participants can be politically charged it may be useful to make the selection process as transparent as possi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usual peo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eing someone who is usually engaged is not grounds to include or exclude some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eople should be included because they are the right peop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The range of opin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y including people with conflicting opinions they may gain some ownership and be less inclined to undermine the process or outcomes by having been exclu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Conflicting inte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mpeting interests are common and cannot be completely avoi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r some deliberative processes conflicts of interest should be disclos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E.g. if an objective is to reach a consensus or make a dec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It may be appropriate to exclude or restrict involvement of some organisations or individu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What’s in it for the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t is important to consider what stakeholders want to get out of a deliberative process and what could prevent them from participat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f everyone’s motivations are clear, there will be less confusion and everyone is more likely to be satisfied with the outcomes</a:t>
            </a: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6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6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6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6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7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73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74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2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93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9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9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9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0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0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03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1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1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2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2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2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2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8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5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1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62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4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5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6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6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9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0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1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72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4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5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76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77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9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0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1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882" dur="500" fill="hold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628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Engaging people, groups or organisations with an interest (stakeholders) in deliberations about health policies can help to ensure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ir concerns are add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blems are analysed, described and perceived correc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priate solutions are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mportant barriers to implementing solutions are conside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ective implementation strategies are identifi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ppropriate values are used when balancing the pros and cons of op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cy decisions are appropriate, understood and accep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ccffff"/>
                </a:solidFill>
                <a:latin typeface="Arial"/>
              </a:rPr>
              <a:t>Questions or comments about deciding which stakeholders to inform and engage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What contextual factors might affect efforts to engage stakeholders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o be effective the methods used to engage stakeholders should be appropriate for the context in which they will be used as well as for the reasons for engaging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Understanding the wider context is important to ensure that efforts to inform and engage stak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Link with other relevant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Do not duplicate other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Build on previous experi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re responsive to stakeholders’ needs and sensi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Are relev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1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ccffff"/>
                </a:solidFill>
                <a:latin typeface="Arial"/>
              </a:rPr>
              <a:t>Knowing about and considering the context can help to guide decisions about how best to engage different stakehold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Key decision-makers’ interest in and commitment to engaging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How engaging stakeholders fits in with the relevant decision-making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Past efforts to address the same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Other relevant past activities that may affect how information is perceived or discus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.g. previous experience with an option for addressing the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Sections of the public that are unlikely to be engaged but should b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.g. disadvantaged popul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Existing relationships between key stakeholders, including relationships with potential facilitators and relevant decision-mak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ffff"/>
                </a:solidFill>
                <a:latin typeface="Arial"/>
              </a:rPr>
              <a:t>E.g. antagonisms or close allian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3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4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4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5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5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7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7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7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5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76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7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7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9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9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01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3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4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0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0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ccffff"/>
                </a:solidFill>
                <a:latin typeface="Arial"/>
              </a:rPr>
              <a:t>Knowing about and considering the context can help to guide decisions about how best to engage different stakehold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Experiences of key stakeholders with deliberative proces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E.g. those with more experience, skills and confidence could dominate processes, so that a process may need to be designed to deal with important differences, for example b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Having different processes for different stakehol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Separating stakeholders with more and less experience in breakout sess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Providing training and support to stakeholders with less experi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The cultural diversity of stakeholders, which may affect people’s willingness to meet together or affect the way they participate in discus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E.g. those with formal committee experience may expect a chair and formal debating procedu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Langua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E.g. it may be important to prepare information in different languages or to ensure that deliberative processes accomodate different langu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Any barriers to people working togeth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E.g. gender barri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ffffff"/>
                </a:solidFill>
                <a:latin typeface="Arial"/>
              </a:rPr>
              <a:t>Other relevant recent, current or planned activities to address the same or related problems, that might affect the feasibility or acceptability of solutions, or that might engage the same particip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ffffff"/>
                </a:solidFill>
                <a:latin typeface="Arial"/>
              </a:rPr>
              <a:t>Knowing about these can help to ensure tha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Information is sh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Undesirable duplication is avoi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200" spc="-1" strike="noStrike">
                <a:solidFill>
                  <a:srgbClr val="ffffff"/>
                </a:solidFill>
                <a:latin typeface="Arial"/>
              </a:rPr>
              <a:t>Activities and outputs are coordinated, if appropriat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3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3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4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4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4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5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5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5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69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72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4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5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76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77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89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0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1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94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5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6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97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9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9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9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0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1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32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34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5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6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37" dur="500" fill="hold"/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ccffff"/>
                </a:solidFill>
                <a:latin typeface="Arial"/>
              </a:rPr>
              <a:t>Questions or comments about assessing contextual factors that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might affect efforts to engage stakeholders</a:t>
            </a:r>
            <a:r>
              <a:rPr b="0" lang="nb-NO" sz="4000" spc="-1" strike="noStrike">
                <a:solidFill>
                  <a:srgbClr val="cc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How will different stakeholder groups be engaged in preparing and using the policy brief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 ways of engaging stakeholders are appropriate for different 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fferent approaches will also likely need to be adapted to the specific context in which they will b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t may help to consider a menu of different approaches when deciding how to engage key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Ways of informing stakehold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sseminating the policy brie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websi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ailored inform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s rele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s conferen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senta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Ways of consulting stakehold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ritten commen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active med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 and answer sess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pen phone lin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erviews, focus groups and survey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blic hearing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ccffff"/>
                </a:solidFill>
                <a:latin typeface="Arial"/>
              </a:rPr>
              <a:t>Ways of involving stakeholder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orking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dvisory groups and task forc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ensus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ccffff"/>
                </a:solidFill>
                <a:latin typeface="Arial"/>
              </a:rPr>
              <a:t>Questions or comments about deciding how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different stakeholder groups will be engaged in preparing and using the policy brief</a:t>
            </a:r>
            <a:r>
              <a:rPr b="0" lang="nb-NO" sz="4000" spc="-1" strike="noStrike">
                <a:solidFill>
                  <a:srgbClr val="cc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ffff"/>
                </a:solidFill>
                <a:latin typeface="Arial"/>
              </a:rPr>
              <a:t>Effectively informing and engaging stakeholders can result in better policy decisions, improved implementation of policies, better healthcare and better outcome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keholder involvement can also be viewed as a goal in itself by encoura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rticipative democ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blic accounta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example, the World Health Organization’s Declaration of Alma Ata states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 people have the right and duty to participate individually and collectively in the planning and implementation of their health c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What difference will informing and engaging stakeholders make and how will this be evaluated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Evaluation is an integral part of involving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Planning the evaluation in advance is important to ensure that necessary data are collected and evaluations can inform decisions about adjustments to the approaches that are being used, if need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4" dur="indefinite" restart="never" nodeType="tmRoot">
          <p:childTnLst>
            <p:seq>
              <p:cTn id="1255" dur="indefinite" nodeType="mainSeq">
                <p:childTnLst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ccffff"/>
                </a:solidFill>
                <a:latin typeface="Arial"/>
              </a:rPr>
              <a:t>Measurable success criteria should be developed that reflect the objectives of informing and engaging stakeholder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valuation should address whether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tended outputs were delivered and were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tended outcomes were ach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Level of involvement w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proaches that were used were appropriate and worked as expec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xtent to which stakeholders were informed and enga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put was appropriate and was used appropriat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fforts were worthwhile in relationship to what was achie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3" dur="indefinite" restart="never" nodeType="tmRoot">
          <p:childTnLst>
            <p:seq>
              <p:cTn id="1274" dur="indefinite" nodeType="mainSeq">
                <p:childTnLst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ccffff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valuation should include a basic description of what was d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bject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rgeted stak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pproaches that we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It is likely to be important to collect feedback from a range of stakeholders, since their assessments of the efforts and the extent to which they succeeded may v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The evaluation can also help with risk management by raising awareness of and monitoring challen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4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4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4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4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4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4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5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5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5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5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5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70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7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7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37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ccffff"/>
                </a:solidFill>
                <a:latin typeface="Arial"/>
              </a:rPr>
              <a:t>Questions or comments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Engaging stakeholders is not always helpful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orly planned and implemented efforts to engage stakeholders ca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reate mistru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aste people’s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dermine future attempts to engage stak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y trying out a method of engaging stakeholders without having a clear objective for engaging them can result in angry participants without any benefit to the policymaking process or outc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keholders are also sometimes engaged for inappropriate reasons; e.g stakeholdrs should not be engaged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gitimise a decision that has already been taken behind closed doors and misled into thinking they can affect the deci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responsibility for difficult decisions</a:t>
            </a:r>
            <a:r>
              <a:rPr b="0" lang="nb-NO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5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777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Efforts to engage stakeholders should be based on respect for their time and their potential contribution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s requires ensuring th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orts to engage stakeholders have a clear purp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akeholders’ input is consi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ir ability to influence decisions is clear</a:t>
            </a:r>
            <a:r>
              <a:rPr b="0" lang="nb-N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Different levels of engagement are appropriate in different circumstance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19280" y="1017720"/>
            <a:ext cx="5905440" cy="521964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34920" y="1125360"/>
            <a:ext cx="9109080" cy="2808360"/>
            <a:chOff x="34920" y="1125360"/>
            <a:chExt cx="9109080" cy="280836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4920" y="1146240"/>
              <a:ext cx="9109080" cy="27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4920" y="1125360"/>
              <a:ext cx="9109080" cy="2808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6360" y="2637000"/>
            <a:ext cx="9107640" cy="2404800"/>
            <a:chOff x="36360" y="2637000"/>
            <a:chExt cx="9107640" cy="2404800"/>
          </a:xfrm>
        </p:grpSpPr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6360" y="2657520"/>
              <a:ext cx="9107640" cy="23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6360" y="2637000"/>
              <a:ext cx="9107640" cy="23763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4920" y="2708280"/>
            <a:ext cx="9108720" cy="3467160"/>
            <a:chOff x="34920" y="2708280"/>
            <a:chExt cx="9108720" cy="3467160"/>
          </a:xfrm>
        </p:grpSpPr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>
              <a:off x="36000" y="2708280"/>
              <a:ext cx="9107640" cy="34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34920" y="2708280"/>
              <a:ext cx="9107640" cy="34574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There is little rigorous evaluation of the effects of different strategies for engaging stakeholders in health policy development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is a vast amount of experience and anecdotal evidence that can inform decisions about how to involve stakeholders in policyma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stematic consideration can help to ensure that stakeholders are well informed and effectively eng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ich stakeholders have an interest in a policy br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egree to which they should be engaged in preparing and using the br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inform and engage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heir input will be us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3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Which stakeholder groups should be informed and engaged in preparing and using the policy brief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areful consideration of which stakeholder groups should be informed and engaged in preparing and using a policy brief is necessary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rget eff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de on appropriate strate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resources effici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fore considering who to engage, it may help to consider how much effort is warra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How much effort should you put into identifying and engaging stakeholders?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an anything change as a result of engaging stakehold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nothing can change as a result of informing or engaging participants it is likely to be better to limit efforts to simple, passive dissemination strate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o you have time and resources to effectively engage stakehold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le it may be possible to set up and run good processes for engaging stakeholders in a very short period of time this is challenging and should be avoi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e there important risks that need to be manag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isks with engaging stakeholders inclu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Wasted resour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iminished credibil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isks to the reputations of those who are enga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amaged relationships among those who are engag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What are the risks of not engaging stakehold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informing or engaging stakeholders also entails ri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informing or engaging key stakeholders may impede implementation of appropriate optio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obtaining their input may result in poorly informed decis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0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5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6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7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2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2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2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5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7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0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9T14:40:34Z</dcterms:created>
  <dc:creator>K</dc:creator>
  <dc:description/>
  <dc:language>en-US</dc:language>
  <cp:lastModifiedBy>K</cp:lastModifiedBy>
  <dcterms:modified xsi:type="dcterms:W3CDTF">2010-06-13T10:09:08Z</dcterms:modified>
  <cp:revision>120</cp:revision>
  <dc:subject/>
  <dc:title>Summarising findings about the likely impacts of options </dc:title>
</cp:coreProperties>
</file>