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7621588" cy="6602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68956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-9628560" algn="ctr">
              <a:spcBef>
                <a:spcPts val="20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0000"/>
          </a:bodyPr>
          <a:p>
            <a:pPr marL="104000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000"/>
          </a:bodyPr>
          <a:p>
            <a:pPr marL="519984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000"/>
          </a:bodyPr>
          <a:p>
            <a:pPr marL="41598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269720" y="930960"/>
            <a:ext cx="10464840" cy="93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-8264520"/>
            <a:ext cx="10464840" cy="132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11000"/>
          </a:bodyPr>
          <a:p>
            <a:pPr marL="11439720" indent="0" algn="ctr"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04000400" indent="0" algn="ctr"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3000"/>
          </a:bodyPr>
          <a:p>
            <a:pPr marL="3119760" indent="0" algn="ctr">
              <a:spcBef>
                <a:spcPts val="201"/>
              </a:spcBef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3119760" indent="-288720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55476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74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3120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6420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7340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6608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048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488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720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720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7200" indent="-3024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5000"/>
          </a:bodyPr>
          <a:p>
            <a:pPr marL="55476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974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3120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6420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07280" indent="-354600">
              <a:spcBef>
                <a:spcPts val="4000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sure.guides@nokc.no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679840" y="3060720"/>
            <a:ext cx="226044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Verdana"/>
                <a:ea typeface="Verdana"/>
              </a:rPr>
              <a:t>Click to sta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30120" y="152280"/>
            <a:ext cx="74041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42968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Verdana"/>
                <a:ea typeface="Verdana"/>
              </a:rPr>
              <a:t>What’s next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3860640" y="5651640"/>
            <a:ext cx="2870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to see the overview again, or select a document to start using the Trial Protocol Too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216000" y="1054080"/>
            <a:ext cx="65786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607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Hopefully you will now have a feel for how the SURE Guides are organised and how it can help you prepare and use an evidence-based policy brief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607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607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If you would like more information about the SURE Guides, or you would like to give some feedback, please send an email to: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607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607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	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Verdana"/>
                <a:ea typeface="Verdana"/>
                <a:hlinkClick r:id="rId1"/>
              </a:rPr>
              <a:t>sure.guides@nokc.no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607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607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6883560" y="5880240"/>
            <a:ext cx="266040" cy="256680"/>
            <a:chOff x="6883560" y="5880240"/>
            <a:chExt cx="266040" cy="256680"/>
          </a:xfrm>
        </p:grpSpPr>
        <p:sp>
          <p:nvSpPr>
            <p:cNvPr id="473" name=""/>
            <p:cNvSpPr/>
            <p:nvPr/>
          </p:nvSpPr>
          <p:spPr>
            <a:xfrm rot="5400000">
              <a:off x="6918840" y="5906160"/>
              <a:ext cx="256680" cy="204480"/>
            </a:xfrm>
            <a:prstGeom prst="pie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883560" y="5905800"/>
              <a:ext cx="151920" cy="0"/>
            </a:xfrm>
            <a:prstGeom prst="line">
              <a:avLst/>
            </a:prstGeom>
            <a:ln w="63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317520" y="5854680"/>
            <a:ext cx="144792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Verdana"/>
              </a:rPr>
              <a:t>November 2011</a:t>
            </a: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216000" y="3841920"/>
            <a:ext cx="476244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44160" y="749160"/>
            <a:ext cx="21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Verdana"/>
                <a:ea typeface="Verdana"/>
              </a:rPr>
              <a:t>Getting star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"/>
          <p:cNvSpPr/>
          <p:nvPr/>
        </p:nvSpPr>
        <p:spPr>
          <a:xfrm>
            <a:off x="4927680" y="1854360"/>
            <a:ext cx="24130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 SURE Guides are intended to help you both produce, and use, an evidence-based policy brief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is overview will show you how the SURE Guides can help you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440640" y="177840"/>
            <a:ext cx="364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Verdana"/>
                <a:ea typeface="Verdana"/>
              </a:rPr>
              <a:t>The SURE Gui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3048120" y="5753160"/>
            <a:ext cx="3809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the mouse for the next slide, or use the arrow keys to backwards and forwa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6921360" y="5905440"/>
            <a:ext cx="257400" cy="20340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60280" y="1638360"/>
            <a:ext cx="4559400" cy="30859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74720" y="1370160"/>
            <a:ext cx="6060960" cy="27828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3" name=""/>
          <p:cNvSpPr/>
          <p:nvPr/>
        </p:nvSpPr>
        <p:spPr>
          <a:xfrm>
            <a:off x="216000" y="152280"/>
            <a:ext cx="6235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5778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Verdana"/>
                <a:ea typeface="Verdana"/>
              </a:rPr>
              <a:t>Moving around the gui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3048120" y="5753160"/>
            <a:ext cx="3809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the mouse for the next slide, or use the arrow keys to backwards and forwa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>
            <a:off x="6921360" y="5905440"/>
            <a:ext cx="257400" cy="20340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>
            <a:off x="291960" y="4876920"/>
            <a:ext cx="6909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934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 SURE Guides work like a normal Windows Help system or many websites.  The left-hand window is for navigation while the bigger right-hand window shows the content.  The navigation window works in the same way as Windows Explorer.  There is also a search function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3098880" y="1790640"/>
            <a:ext cx="3746520" cy="2362320"/>
          </a:xfrm>
          <a:prstGeom prst="rect">
            <a:avLst/>
          </a:prstGeom>
          <a:solidFill>
            <a:srgbClr val="ff8000">
              <a:alpha val="33000"/>
            </a:srgbClr>
          </a:solidFill>
          <a:ln w="25560">
            <a:solidFill>
              <a:srgbClr val="00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5384880" y="4280040"/>
            <a:ext cx="1612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638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Verdana"/>
                <a:ea typeface="Verdana"/>
              </a:rPr>
              <a:t>Content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812880" y="1930320"/>
            <a:ext cx="2235240" cy="2222640"/>
          </a:xfrm>
          <a:prstGeom prst="rect">
            <a:avLst/>
          </a:prstGeom>
          <a:solidFill>
            <a:srgbClr val="ff8000">
              <a:alpha val="33000"/>
            </a:srgbClr>
          </a:solidFill>
          <a:ln w="25560">
            <a:solidFill>
              <a:srgbClr val="000000">
                <a:alpha val="3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114480" y="4140360"/>
            <a:ext cx="19810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2006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Verdana"/>
                <a:ea typeface="Verdana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 flipH="1" rot="3060000">
            <a:off x="4745520" y="3851640"/>
            <a:ext cx="1086120" cy="204480"/>
          </a:xfrm>
          <a:prstGeom prst="pie">
            <a:avLst/>
          </a:prstGeom>
          <a:solidFill>
            <a:srgbClr val="ff8000"/>
          </a:soli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 flipH="1" rot="7860000">
            <a:off x="287280" y="3699000"/>
            <a:ext cx="1085760" cy="205200"/>
          </a:xfrm>
          <a:prstGeom prst="pie">
            <a:avLst/>
          </a:prstGeom>
          <a:solidFill>
            <a:srgbClr val="ff8000"/>
          </a:soli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511280" y="1257480"/>
            <a:ext cx="5079960" cy="262224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34" name=""/>
          <p:cNvSpPr/>
          <p:nvPr/>
        </p:nvSpPr>
        <p:spPr>
          <a:xfrm>
            <a:off x="216000" y="152280"/>
            <a:ext cx="72896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Verdana"/>
                <a:ea typeface="Verdana"/>
              </a:rPr>
              <a:t>Finding documents with search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3048120" y="5753160"/>
            <a:ext cx="3809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the mouse for the next slide, or use the arrow keys to backwards and forwa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6921360" y="5905440"/>
            <a:ext cx="257400" cy="20340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355680" y="5207040"/>
            <a:ext cx="6908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934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 search looks at every word in the SURE Guides so it is a powerful way of finding what you are looking for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>
            <a:off x="990720" y="1905120"/>
            <a:ext cx="507960" cy="330120"/>
          </a:xfrm>
          <a:prstGeom prst="pie">
            <a:avLst/>
          </a:prstGeom>
          <a:solidFill>
            <a:srgbClr val="ff8000"/>
          </a:soli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128520" y="1523880"/>
            <a:ext cx="85104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ype search word and click ‘Search’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3340080" y="4343400"/>
            <a:ext cx="3390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on the document on the left that looks most interesting and it is then shown in the right hand window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5321160" y="3923640"/>
            <a:ext cx="507960" cy="330480"/>
          </a:xfrm>
          <a:prstGeom prst="pie">
            <a:avLst/>
          </a:prstGeom>
          <a:solidFill>
            <a:srgbClr val="ff8000"/>
          </a:solid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77840" y="1028880"/>
            <a:ext cx="3898800" cy="29113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3" name=""/>
          <p:cNvSpPr/>
          <p:nvPr/>
        </p:nvSpPr>
        <p:spPr>
          <a:xfrm>
            <a:off x="216000" y="152280"/>
            <a:ext cx="3924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5499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Verdana"/>
                <a:ea typeface="Verdana"/>
              </a:rPr>
              <a:t>The eight guid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5753160"/>
            <a:ext cx="3809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the mouse for the next slide, or use the arrow keys to backwards and forwa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"/>
          <p:cNvSpPr/>
          <p:nvPr/>
        </p:nvSpPr>
        <p:spPr>
          <a:xfrm>
            <a:off x="6921360" y="5905440"/>
            <a:ext cx="257400" cy="20340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4241880" y="977760"/>
            <a:ext cx="32256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re are eight guides in the SURE Guides: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Getting started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Prioritising topics for policy brief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arifying the problem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Deciding on and describing opti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Identifying and addressing barriers to implementing policy option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Monitoring and evalua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Organising and running policy dialogu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Informing and engaging stakeholder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216000" y="4292640"/>
            <a:ext cx="70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re is also a Library, which is full of examples, templates, worksheets, articles and audio clips that will help you produce and use an evidence-based policy brief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177840" y="1582560"/>
            <a:ext cx="6045120" cy="31039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9" name=""/>
          <p:cNvSpPr/>
          <p:nvPr/>
        </p:nvSpPr>
        <p:spPr>
          <a:xfrm>
            <a:off x="216000" y="127080"/>
            <a:ext cx="65656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6591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Verdana"/>
                <a:ea typeface="Verdana"/>
              </a:rPr>
              <a:t>Each guide contains several sect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3048120" y="5753160"/>
            <a:ext cx="3809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the mouse for the next slide, or use the arrow keys to backwards and forwa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6921360" y="5905440"/>
            <a:ext cx="257400" cy="20340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>
            <a:off x="216000" y="4927680"/>
            <a:ext cx="7061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Each guide is broken up into a number of sections, usually questions.  Additional Resources contains examples, templates, checklists and other materials that might be helpful. Finally there is a list of useful references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216000" y="152280"/>
            <a:ext cx="410184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5575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Verdana"/>
                <a:ea typeface="Verdana"/>
              </a:rPr>
              <a:t>Lots of resourc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3048120" y="5753160"/>
            <a:ext cx="3809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the mouse for the next slide, or use the arrow keys to backwards and forwa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6921360" y="5905440"/>
            <a:ext cx="257400" cy="20340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216000" y="4915080"/>
            <a:ext cx="652788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556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 text is scattered with examples, which might be tables highlighting key information, checklists or audio clips of someone talking about a particular aspect of the policy brief process.  Many of these are in a guide’s Additional Resources section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39680" y="880920"/>
            <a:ext cx="5765760" cy="18115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71520" y="2235240"/>
            <a:ext cx="6880320" cy="232416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35040" y="990720"/>
            <a:ext cx="6337440" cy="371772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60" name=""/>
          <p:cNvSpPr/>
          <p:nvPr/>
        </p:nvSpPr>
        <p:spPr>
          <a:xfrm>
            <a:off x="330120" y="139680"/>
            <a:ext cx="5067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092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Verdana"/>
                <a:ea typeface="Verdana"/>
              </a:rPr>
              <a:t>Librari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53160"/>
            <a:ext cx="3809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the mouse for the next slide, or use the arrow keys to backwards and forwa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921360" y="5905440"/>
            <a:ext cx="257400" cy="20340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216000" y="4902120"/>
            <a:ext cx="6400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426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Libraries contains pdf versions of the guides, checklists, templates and a wide range of examples.  A key part of Libraries are the examples of policy briefs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30120" y="139680"/>
            <a:ext cx="50673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5092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Verdana"/>
                <a:ea typeface="Verdana"/>
              </a:rPr>
              <a:t>Teaching Resourc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3048120" y="5753160"/>
            <a:ext cx="38098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Click the mouse for the next slide, or use the arrow keys to backwards and forward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6921360" y="5905440"/>
            <a:ext cx="257400" cy="203400"/>
          </a:xfrm>
          <a:prstGeom prst="pie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>
            <a:off x="216000" y="5207040"/>
            <a:ext cx="6400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64263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Verdana"/>
              </a:rPr>
              <a:t>The Libraries also contain teaching materials for running courses on evidence-informed policy briefs.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43080" y="863640"/>
            <a:ext cx="6527520" cy="407988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